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BEDF19-C812-45F8-90AD-152CBCD8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D790EB-C7D7-4169-A390-A337CC443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3633-9741-4AA1-A1E1-75831CD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0474-9C27-4494-A144-CEEB3E16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DED0-5F3D-4669-978A-06B334D8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23FF-228B-44B2-9498-5F5B3606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6049-6F56-4B27-B1EC-B7297ACF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CD39-AD90-432F-B980-EF0EE4F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66B7-ECCD-4B6D-8585-B122C18D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B63D-28F9-4D00-A194-6D11CB54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D467-6A31-4E78-A652-1EEE31C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144-1C1B-44F4-B5BC-6576255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5E78-2381-4C3D-A7D5-46169E4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092D-D0D5-4429-93C2-1BDC194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F6F-ECBC-48FE-B906-BD2F2B0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EF3D-A457-4C6E-B3D3-62E5032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5B27-79B6-4890-A0AF-A66AD85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424D-2DCB-4E1A-B901-1E742233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395-E5D9-47D9-99BC-22B7A700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F0D8-DEB9-4BCB-9770-9A56C9FE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9AFF-F08A-4CCF-BEA5-1AED17B3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8D65-F535-4B77-9033-3EC3434E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07C8-60C6-403A-B1AB-A75DBE21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C6AB-8701-42C1-B1D0-EFE0FEE8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6A32-0F86-4543-B853-35AAD18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1A18-4499-45CE-93A5-FBEF246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A1A-7D7D-4AA2-9953-41745106E4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B0F-6809-44FC-ACC6-916A32179F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hyperlink" Target="http://www.ukm.my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3520" y="3733920"/>
            <a:ext cx="8001000" cy="27432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31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5b5b89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DESIGNING COURSE SYLLABUS BASED ON OUTCO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7391520" cy="2438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Assoc. Prof. Dr. Mohd Jailani Mohd 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Deputy Dean (Acade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Faculty of Engineering, U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Email:  jailani@vlsi.eng.ukm.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28600" y="1981080"/>
            <a:ext cx="8686800" cy="42674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Behavioral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Skills Outcom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3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ritten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blem-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ut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r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sent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roup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033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nag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am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28600" y="1676520"/>
            <a:ext cx="8686800" cy="41907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ypes of Goals: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ffect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titudinal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reciation for music, literatur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reciation of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ligious values of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litical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thical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mitment to lifelong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666720" y="923760"/>
            <a:ext cx="7695360" cy="5933520"/>
            <a:chOff x="666720" y="923760"/>
            <a:chExt cx="7695360" cy="5933520"/>
          </a:xfrm>
        </p:grpSpPr>
        <p:sp>
          <p:nvSpPr>
            <p:cNvPr id="603" name=""/>
            <p:cNvSpPr/>
            <p:nvPr/>
          </p:nvSpPr>
          <p:spPr>
            <a:xfrm>
              <a:off x="666720" y="923760"/>
              <a:ext cx="1720080" cy="5916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6800" y="3036600"/>
              <a:ext cx="5975280" cy="219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86800" y="5065200"/>
              <a:ext cx="5975280" cy="1774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86800" y="923760"/>
              <a:ext cx="5975280" cy="21978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66720" y="923760"/>
              <a:ext cx="7672680" cy="5933520"/>
              <a:chOff x="666720" y="923760"/>
              <a:chExt cx="7672680" cy="593352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72480" y="928800"/>
                <a:ext cx="7659360" cy="5922000"/>
                <a:chOff x="672480" y="928800"/>
                <a:chExt cx="7659360" cy="592200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672480" y="928800"/>
                  <a:ext cx="1676160" cy="2181600"/>
                  <a:chOff x="672480" y="928800"/>
                  <a:chExt cx="1676160" cy="21816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761040" y="928800"/>
                    <a:ext cx="1498680" cy="21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Receiving Phenomena: Awareness, Willingness to hear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72480" y="928800"/>
                    <a:ext cx="1676160" cy="218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2349000" y="928800"/>
                  <a:ext cx="5982840" cy="2181600"/>
                  <a:chOff x="2349000" y="928800"/>
                  <a:chExt cx="5982840" cy="218160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437560" y="928800"/>
                    <a:ext cx="5805360" cy="21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Listen to others with respect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Choose, describe, follows, gives, locates, selects, us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9000" y="928800"/>
                    <a:ext cx="5982840" cy="218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72480" y="3110760"/>
                  <a:ext cx="1676160" cy="1973880"/>
                  <a:chOff x="672480" y="3110760"/>
                  <a:chExt cx="1676160" cy="197388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761040" y="3110760"/>
                    <a:ext cx="1498680" cy="197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Responding to Phenomena: Active participation on the part of the learners.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72480" y="3110760"/>
                    <a:ext cx="1676160" cy="1973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2349000" y="3110760"/>
                  <a:ext cx="5982840" cy="1973880"/>
                  <a:chOff x="2349000" y="3110760"/>
                  <a:chExt cx="5982840" cy="197388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2437560" y="3110760"/>
                    <a:ext cx="5805360" cy="197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Participates in class discussion.  Gives a presentation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answers, assists, aids, presents, reads. 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9000" y="3110760"/>
                    <a:ext cx="5982840" cy="1973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72480" y="5085000"/>
                  <a:ext cx="1676160" cy="1765800"/>
                  <a:chOff x="672480" y="5085000"/>
                  <a:chExt cx="1676160" cy="1765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761040" y="5085000"/>
                    <a:ext cx="1498680" cy="176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Valuing: The worth or value  a person attaches to a particular behaviour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72480" y="5085000"/>
                    <a:ext cx="1676160" cy="176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2349000" y="5085000"/>
                  <a:ext cx="5982840" cy="1765800"/>
                  <a:chOff x="2349000" y="5085000"/>
                  <a:chExt cx="5982840" cy="17658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2437560" y="5085000"/>
                    <a:ext cx="5805360" cy="176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Show ability to solve problem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completes, demonstrates, differentiates, explains.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9000" y="5085000"/>
                    <a:ext cx="5982840" cy="176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7" name=""/>
              <p:cNvSpPr/>
              <p:nvPr/>
            </p:nvSpPr>
            <p:spPr>
              <a:xfrm>
                <a:off x="666720" y="923760"/>
                <a:ext cx="7672680" cy="593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609480" y="0"/>
            <a:ext cx="76964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Five major categories under Affective domai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681120" y="909720"/>
            <a:ext cx="7695360" cy="5714280"/>
            <a:chOff x="681120" y="909720"/>
            <a:chExt cx="7695360" cy="5714280"/>
          </a:xfrm>
        </p:grpSpPr>
        <p:sp>
          <p:nvSpPr>
            <p:cNvPr id="630" name=""/>
            <p:cNvSpPr/>
            <p:nvPr/>
          </p:nvSpPr>
          <p:spPr>
            <a:xfrm>
              <a:off x="681120" y="909720"/>
              <a:ext cx="1720080" cy="5697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01200" y="2944800"/>
              <a:ext cx="5975280" cy="211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01200" y="4898160"/>
              <a:ext cx="5975280" cy="1709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01200" y="909720"/>
              <a:ext cx="5975280" cy="2116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681120" y="909720"/>
              <a:ext cx="7672680" cy="5714280"/>
              <a:chOff x="681120" y="909720"/>
              <a:chExt cx="7672680" cy="57142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686880" y="914760"/>
                <a:ext cx="7659360" cy="5703120"/>
                <a:chOff x="686880" y="914760"/>
                <a:chExt cx="7659360" cy="570312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686880" y="914760"/>
                  <a:ext cx="1676160" cy="2100960"/>
                  <a:chOff x="686880" y="914760"/>
                  <a:chExt cx="1676160" cy="210096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75440" y="914760"/>
                    <a:ext cx="149868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Organization: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Organizes values into priorities by contrasting different valu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86880" y="914760"/>
                    <a:ext cx="167616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2363400" y="914760"/>
                  <a:ext cx="5982840" cy="2100960"/>
                  <a:chOff x="2363400" y="914760"/>
                  <a:chExt cx="5982840" cy="210096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2451960" y="914760"/>
                    <a:ext cx="580536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Recognising the need for balance between freedom and responsible behaviour. 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compares, adheres, arranges, combines, explains, formulat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63400" y="914760"/>
                    <a:ext cx="598284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686880" y="3016080"/>
                  <a:ext cx="1676160" cy="1900800"/>
                  <a:chOff x="686880" y="3016080"/>
                  <a:chExt cx="1676160" cy="190080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775440" y="3016080"/>
                    <a:ext cx="149868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Characterization: Has a value system that controls their behaviour and shows characteristics   of the learner.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86880" y="3016080"/>
                    <a:ext cx="167616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2363400" y="3016080"/>
                  <a:ext cx="5982840" cy="1900800"/>
                  <a:chOff x="2363400" y="3016080"/>
                  <a:chExt cx="5982840" cy="1900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2451960" y="3016080"/>
                    <a:ext cx="580536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Shows self reliance when working independently. Cooperates in group activities. Display professional commitment to ethical practice on a daily basi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discriminates, displays, listen, solves, qualifies. 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63400" y="3016080"/>
                    <a:ext cx="598284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686880" y="4917240"/>
                  <a:ext cx="1676160" cy="1700640"/>
                  <a:chOff x="686880" y="4917240"/>
                  <a:chExt cx="1676160" cy="17006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775440" y="4917240"/>
                    <a:ext cx="149868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86880" y="4917240"/>
                    <a:ext cx="167616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363400" y="4917240"/>
                  <a:ext cx="5982840" cy="1700640"/>
                  <a:chOff x="2363400" y="4917240"/>
                  <a:chExt cx="5982840" cy="170064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2451960" y="4917240"/>
                    <a:ext cx="580536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  <a:ea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63400" y="4917240"/>
                    <a:ext cx="598284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4" name=""/>
              <p:cNvSpPr/>
              <p:nvPr/>
            </p:nvSpPr>
            <p:spPr>
              <a:xfrm>
                <a:off x="681120" y="909720"/>
                <a:ext cx="7672680" cy="571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"/>
          <p:cNvSpPr/>
          <p:nvPr/>
        </p:nvSpPr>
        <p:spPr>
          <a:xfrm>
            <a:off x="609480" y="0"/>
            <a:ext cx="76964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Five major categories under Affective domai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28600" y="1523880"/>
            <a:ext cx="8686800" cy="44960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ffective 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lated to attitudes,values, beliefs which influenc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utcomes might include becoming sensitive to the values of others, practicing ethical behavior, and personal discip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not be measured directly but inferred by observing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 group work, simulations, and surveys in which students report on behavior, attitudes, and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NC senior survey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652320" y="923760"/>
            <a:ext cx="7696080" cy="5714280"/>
            <a:chOff x="652320" y="923760"/>
            <a:chExt cx="7696080" cy="5714280"/>
          </a:xfrm>
        </p:grpSpPr>
        <p:sp>
          <p:nvSpPr>
            <p:cNvPr id="661" name=""/>
            <p:cNvSpPr/>
            <p:nvPr/>
          </p:nvSpPr>
          <p:spPr>
            <a:xfrm>
              <a:off x="652320" y="923760"/>
              <a:ext cx="1720440" cy="5697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72760" y="2958840"/>
              <a:ext cx="5975640" cy="211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72760" y="4912200"/>
              <a:ext cx="5975640" cy="1709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72760" y="923760"/>
              <a:ext cx="5975640" cy="2116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652320" y="923760"/>
              <a:ext cx="7673040" cy="5714280"/>
              <a:chOff x="652320" y="923760"/>
              <a:chExt cx="7673040" cy="571428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658080" y="928800"/>
                <a:ext cx="7659720" cy="5703120"/>
                <a:chOff x="658080" y="928800"/>
                <a:chExt cx="7659720" cy="570312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658080" y="928800"/>
                  <a:ext cx="1676160" cy="2100960"/>
                  <a:chOff x="658080" y="928800"/>
                  <a:chExt cx="1676160" cy="210096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746640" y="928800"/>
                    <a:ext cx="149868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Perception: ability to use sensory cues to guide motor activity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58080" y="928800"/>
                    <a:ext cx="167616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2334600" y="928800"/>
                  <a:ext cx="5983200" cy="2100960"/>
                  <a:chOff x="2334600" y="928800"/>
                  <a:chExt cx="5983200" cy="21009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423160" y="928800"/>
                    <a:ext cx="580572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Detects non verbal communication cue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Choose, describe, detects, distinguish, identifie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34600" y="928800"/>
                    <a:ext cx="598320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58080" y="3030120"/>
                  <a:ext cx="1676160" cy="1900800"/>
                  <a:chOff x="658080" y="3030120"/>
                  <a:chExt cx="1676160" cy="190080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746640" y="3030120"/>
                    <a:ext cx="149868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Guided Response: The early stages in learning a complex skill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58080" y="3030120"/>
                    <a:ext cx="167616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2334600" y="3030120"/>
                  <a:ext cx="5983200" cy="1900800"/>
                  <a:chOff x="2334600" y="3030120"/>
                  <a:chExt cx="5983200" cy="190080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2423160" y="3030120"/>
                    <a:ext cx="580572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Performs a  mathematical equation as demonstrated by instructions to build a model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copies, traces, follows, responds. 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34600" y="3030120"/>
                    <a:ext cx="598320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658080" y="4931280"/>
                  <a:ext cx="1676160" cy="1700640"/>
                  <a:chOff x="658080" y="4931280"/>
                  <a:chExt cx="1676160" cy="17006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746640" y="4931280"/>
                    <a:ext cx="149868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Adaptation: Skills are well developed and the individual can modify movements to fit special requirements.  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58080" y="4931280"/>
                    <a:ext cx="167616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2334600" y="4931280"/>
                  <a:ext cx="5983200" cy="1700640"/>
                  <a:chOff x="2334600" y="4931280"/>
                  <a:chExt cx="5983200" cy="17006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2423160" y="4931280"/>
                    <a:ext cx="580572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Responds effectively to unexpected experiences. 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adapts, alters, changes, rearrang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34600" y="4931280"/>
                    <a:ext cx="598320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5" name=""/>
              <p:cNvSpPr/>
              <p:nvPr/>
            </p:nvSpPr>
            <p:spPr>
              <a:xfrm>
                <a:off x="652320" y="923760"/>
                <a:ext cx="7673040" cy="571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609480" y="0"/>
            <a:ext cx="76964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xamples of categories under Psychomotor domai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28600" y="1905120"/>
            <a:ext cx="8686800" cy="32763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Focus of the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urse outcomes, delivery method and  assessment method relate to programme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ing in coherent curric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wards achieving programme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9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5b5b89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dfdef6"/>
                </a:solidFill>
                <a:latin typeface="Arial Narrow"/>
              </a:rPr>
              <a:t>CURRICULUM 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oes it mean 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" y="1600200"/>
            <a:ext cx="845820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Course  (the courses offered by an educational institu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 curriculum can be defined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the planned educational experiences offered by a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Todd  1965</a:t>
            </a: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(Todd, E. A. Curriculum Development and Instructional Planning. Nederland, TX.: Nederland Ind. School District, pg. 2.)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80880" y="1523880"/>
            <a:ext cx="8229600" cy="502920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ments of a Curriculu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2120" y="1676520"/>
            <a:ext cx="7696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urse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eaching-learning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ssessment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valuation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process of defining and organising these elements into a logical pattern is known as curriculum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04920" y="0"/>
            <a:ext cx="8305560" cy="685800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57200" y="246240"/>
          <a:ext cx="7924680" cy="6259320"/>
        </p:xfrm>
        <a:graphic>
          <a:graphicData uri="http://schemas.openxmlformats.org/drawingml/2006/table">
            <a:tbl>
              <a:tblPr/>
              <a:tblGrid>
                <a:gridCol w="5486400"/>
                <a:gridCol w="2438280"/>
              </a:tblGrid>
              <a:tr h="17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riculum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inked Outco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Fundamentals (30 credi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Mathematics &amp; Engineering Scienc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Engineering core (56 credi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Principles &amp; Applications in 9 Engineering Disciplines/Programm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,2,3,4&amp;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kills / tools (7 credi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Programming, graphics, workshop practice, engineering application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&amp;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>
            <a:off x="5105520" y="6324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OUTCOMES CATEGORI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2743200"/>
            <a:ext cx="601992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nderpinning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Professional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Personal Qualities / Skills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ailani Mohd Nor,  Feb.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80880" y="304920"/>
            <a:ext cx="8305920" cy="655308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533520" y="334800"/>
          <a:ext cx="7924680" cy="6031080"/>
        </p:xfrm>
        <a:graphic>
          <a:graphicData uri="http://schemas.openxmlformats.org/drawingml/2006/table">
            <a:tbl>
              <a:tblPr/>
              <a:tblGrid>
                <a:gridCol w="5790960"/>
                <a:gridCol w="2133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riculum 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inked Outco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  <a:ea typeface="Times New Roman"/>
                        </a:rPr>
                        <a:t>Projects &amp; Professional Practice (14 credit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3" marL="13716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Industrial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3" marL="13716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Design Projec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Research Project</a:t>
                      </a: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,2,3,4,5,6,7,8,9,10,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  <a:ea typeface="Times New Roman"/>
                        </a:rPr>
                        <a:t>Non-technical (21 credit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Nationhood &amp; civilisational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Thinking &amp; organisational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Teknology dan Civilis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o-curricu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English for Engine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Engineering Management I &amp; II</a:t>
                      </a: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6,7,8,9,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5181480" y="62485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1992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457200" y="914400"/>
          <a:ext cx="8686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686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62880" y="601020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08" name=""/>
          <p:cNvSpPr/>
          <p:nvPr/>
        </p:nvSpPr>
        <p:spPr>
          <a:xfrm>
            <a:off x="3808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 of Course – PO Matri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7200" y="6381720"/>
            <a:ext cx="7238880" cy="476280"/>
            <a:chOff x="457200" y="6381720"/>
            <a:chExt cx="7238880" cy="476280"/>
          </a:xfrm>
        </p:grpSpPr>
        <p:sp>
          <p:nvSpPr>
            <p:cNvPr id="711" name=""/>
            <p:cNvSpPr/>
            <p:nvPr/>
          </p:nvSpPr>
          <p:spPr>
            <a:xfrm>
              <a:off x="457200" y="6381720"/>
              <a:ext cx="7238880" cy="47628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1960" y="640152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85800" y="1523880"/>
            <a:ext cx="6629400" cy="365760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6320" y="193680"/>
            <a:ext cx="62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rriculum Design Gu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7880" y="1604880"/>
            <a:ext cx="75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 well designed curriculum must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olistic and coh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cused on lear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couraging independence in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as links to resear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sed on feedback, evaluation and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Focus of the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371600" y="1371600"/>
            <a:ext cx="6781680" cy="5257800"/>
            <a:chOff x="1371600" y="1371600"/>
            <a:chExt cx="6781680" cy="5257800"/>
          </a:xfrm>
        </p:grpSpPr>
        <p:sp>
          <p:nvSpPr>
            <p:cNvPr id="718" name=""/>
            <p:cNvSpPr/>
            <p:nvPr/>
          </p:nvSpPr>
          <p:spPr>
            <a:xfrm>
              <a:off x="1743120" y="4851360"/>
              <a:ext cx="147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90960" y="2625840"/>
              <a:ext cx="161784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ourse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Outcom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19760" y="1873080"/>
              <a:ext cx="120960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ubfield</a:t>
              </a:r>
              <a:br>
                <a:rPr sz="700"/>
              </a:b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1"/>
            <a:srcRect l="1734" t="1847" r="2081" b="1847"/>
            <a:stretch/>
          </p:blipFill>
          <p:spPr>
            <a:xfrm>
              <a:off x="1371600" y="1371600"/>
              <a:ext cx="6781680" cy="525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22" name=""/>
            <p:cNvSpPr/>
            <p:nvPr/>
          </p:nvSpPr>
          <p:spPr>
            <a:xfrm>
              <a:off x="3200400" y="1897200"/>
              <a:ext cx="149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Programme</a:t>
              </a:r>
              <a:br>
                <a:rPr sz="1400"/>
              </a:b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outco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52880" y="1828800"/>
              <a:ext cx="149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Sub-Fie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14800" y="2666880"/>
              <a:ext cx="149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f0f17"/>
                  </a:solidFill>
                  <a:latin typeface="Arial"/>
                </a:rPr>
                <a:t>Cour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f0f17"/>
                  </a:solidFill>
                  <a:latin typeface="Arial"/>
                </a:rPr>
                <a:t>Outcom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52480" y="4876920"/>
              <a:ext cx="14940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Delivery 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1230480"/>
            <a:ext cx="80773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Kod Kursus:          KJ434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ama Kursus: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kust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Jenis kursus: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Jabatan (Elektif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Kandungan kursu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Kursus ini memberikan pendedahan kepada pelajar mengenai bidang akustik kejuruteraan dan bagaimana menggunakan teori asas gelombang bunyi untuk menyelesaikan masalah kejuruteraan. Antara topik-topik yang akan dibincangkan termasuk: Pengenalan kepada konsep dan teori akustik, Konsep asas gelombang dalam satu dimensi, Konsep asas gelombang dalam membran (dua-dimensi), Konsep asas gelombang dalam ruang (tiga-dimensi), Kaedah Pengukuran dan pemprosesan isyarat bunyi, Kaedah pengawalan bunyi, Akustik dalaman bangunan, Kesan bunyi kepada manusia, dan Analisis bunyi sekitara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Pra-keperluan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KJ 2043 (Analisis Kompleks &amp; Persamaan Kebezaan Separa) d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KJ 4353 (Getaran Mekanik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ujuk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L.E. Kinsler et.al., 2000, </a:t>
            </a:r>
            <a:r>
              <a:rPr b="0" i="1" lang="en-GB" sz="1600" spc="-1" strike="noStrike">
                <a:solidFill>
                  <a:srgbClr val="800000"/>
                </a:solidFill>
                <a:latin typeface="Arial"/>
              </a:rPr>
              <a:t>Fundamentals of Acoustics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, Edisi ke-4, J. Wiley &amp; S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D. E. Hall,  1987,  </a:t>
            </a:r>
            <a:r>
              <a:rPr b="0" i="1" lang="en-GB" sz="1600" spc="-1" strike="noStrike">
                <a:solidFill>
                  <a:srgbClr val="800000"/>
                </a:solidFill>
                <a:latin typeface="Arial"/>
              </a:rPr>
              <a:t>Basic Acoustics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, John Wiley &amp; S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B. J. Smith, R. J. Peters dan S. Owen, 1996, </a:t>
            </a:r>
            <a:r>
              <a:rPr b="0" i="1" lang="en-GB" sz="1600" spc="-1" strike="noStrike">
                <a:solidFill>
                  <a:srgbClr val="800000"/>
                </a:solidFill>
                <a:latin typeface="Arial"/>
              </a:rPr>
              <a:t>Acoustics and Noise Control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, Longm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1143000"/>
            <a:ext cx="9144000" cy="4495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40" y="1302840"/>
            <a:ext cx="93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NewRomanPS-BoldMT"/>
                <a:ea typeface="Times New Roman"/>
              </a:rPr>
              <a:t>Hasil Pembelajaran Kursus, Hubungannya dengan Hasil Pembelajaran Progra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NewRomanPS-BoldMT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TimesNewRomanPS-BoldMT"/>
                <a:ea typeface="Times New Roman"/>
              </a:rPr>
              <a:t>Kaedah Perlaksanaan dan Kaedah Penila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262080" y="2481120"/>
          <a:ext cx="8621640" cy="2044800"/>
        </p:xfrm>
        <a:graphic>
          <a:graphicData uri="http://schemas.openxmlformats.org/drawingml/2006/table">
            <a:tbl>
              <a:tblPr/>
              <a:tblGrid>
                <a:gridCol w="249120"/>
                <a:gridCol w="2609640"/>
                <a:gridCol w="30636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52720"/>
                <a:gridCol w="252360"/>
                <a:gridCol w="1873080"/>
                <a:gridCol w="135036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Hasil Pembelajaran Kursus (CO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aedah Perlaksana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aedah Penilai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Memahami konsep dan penggunaan istilah-istilah yang terdapat dalam bidang akustik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rbincangan dalam kuliah dan aktiviti berkumpul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utoran, &amp; Kuiz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upayaan untuk menyelesaikan masalah melalui pengiraan mengenai ciri-ciri dinamik gelombang dalam benang, yang melibatkan amplitud, kelajuan, frekuensi dan bentuk ragam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rbincangan dalam kuliah dan aktiviti makm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utoran dan Laporan Makmal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985320" y="4723560"/>
            <a:ext cx="71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GB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Kata Kunci:   Mengetahui,   Memahami,   Menyelesai masala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1676520"/>
            <a:ext cx="8686800" cy="3352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7200" y="1828800"/>
          <a:ext cx="8229600" cy="2971440"/>
        </p:xfrm>
        <a:graphic>
          <a:graphicData uri="http://schemas.openxmlformats.org/drawingml/2006/table">
            <a:tbl>
              <a:tblPr/>
              <a:tblGrid>
                <a:gridCol w="235080"/>
                <a:gridCol w="2461320"/>
                <a:gridCol w="28944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37960"/>
                <a:gridCol w="237960"/>
                <a:gridCol w="1766880"/>
                <a:gridCol w="1272960"/>
              </a:tblGrid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upayaan untuk menyelesai masalah kejuruteraan yang berkaitan dengan akustik bangunan dan pencemaran bunyi sekitara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rbincangan dalam kuliah dan aktiviti makmal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utoran, Kuiz, Peperiksaan dan Laporan Projek/Makmal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bolehan untuk menghasilkan laporan kejuruteraan yang berkaitan dengan bidang akustik dan membentangkannya secara individu dan berkumpula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uliah, e-pembelajaran, dan “</a:t>
                      </a:r>
                      <a:r>
                        <a:rPr b="0" i="1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roblem-Based Learning”</a:t>
                      </a: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(PBL)”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Laporan Bertulis, Pembentangan oral dan Penilaian Rakan (Peer Evaluation)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0" name=""/>
          <p:cNvGrpSpPr/>
          <p:nvPr/>
        </p:nvGrpSpPr>
        <p:grpSpPr>
          <a:xfrm>
            <a:off x="1034280" y="5410080"/>
            <a:ext cx="7291800" cy="609840"/>
            <a:chOff x="1034280" y="5410080"/>
            <a:chExt cx="7291800" cy="609840"/>
          </a:xfrm>
        </p:grpSpPr>
        <p:sp>
          <p:nvSpPr>
            <p:cNvPr id="741" name=""/>
            <p:cNvSpPr/>
            <p:nvPr/>
          </p:nvSpPr>
          <p:spPr>
            <a:xfrm>
              <a:off x="1066680" y="5410080"/>
              <a:ext cx="7239240" cy="60984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34280" y="5485680"/>
              <a:ext cx="729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Kecil kaitan antara CO dengan PO ,  2 = Sederhana   3 = Bes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28600" y="762120"/>
            <a:ext cx="8686800" cy="6095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533520" y="1295280"/>
          <a:ext cx="8229600" cy="5477040"/>
        </p:xfrm>
        <a:graphic>
          <a:graphicData uri="http://schemas.openxmlformats.org/drawingml/2006/table">
            <a:tbl>
              <a:tblPr/>
              <a:tblGrid>
                <a:gridCol w="7256520"/>
                <a:gridCol w="973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      Pengenalan kepada konsep bunyi dan akusti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Ciri-ciri tabii isyarat bunyi. Definasi bunyi, hingar, akustik, kebisingan dan desibel. </a:t>
                      </a: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Definasi parameter paras tekanan bunyi, paras kuasa bunyi dan paras keamatan buny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       Persamaan asas gelombang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onsep asas gelombang sin. Persamaan gelombang dalam sistem berterusan. Analisis gelombang majmuk.    Frekuensi harmonik. Jalur oktaf dan 1/3 oktaf. Konsep spektrum. Perambatan gelombang bunyi. Penggunaan jelmaan Fourie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       Pengukuran isyarat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Meter pengukur bunyi. Pengukuran amplitud dan frekuensi. Takrifan parameter L</a:t>
                      </a:r>
                      <a:r>
                        <a:rPr b="0" lang="en-GB" sz="1200" spc="-1" strike="noStrike" baseline="-30000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eq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nilai </a:t>
                      </a:r>
                      <a:r>
                        <a:rPr b="0" i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rms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L</a:t>
                      </a:r>
                      <a:r>
                        <a:rPr b="0" lang="en-GB" sz="1200" spc="-1" strike="noStrike" baseline="-30000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dll…   Mengukur keamatan bunyi. Rangkaian pemberat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.       Kaedah-kaedah pemprosesan isyarat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Analisis statistik. Kajian mendalam analisis spektrum. Spektrum silang. Rangkap hantaran. Analisis domain-masa-frekuensi serentak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.       Kaedah pengawalan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yerap bunyi. Dinding penghalang bunyi. Kaedah galangan tiub. Rekabentuk muffler. Penggetar Helmholtz. Penggunaan sistem penyerak bunyi. Bilek gema. Kebok nyah-pantulan. Kaedah kawalan aktif hinga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-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.       Akustik dalaman bangun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gukuran dan pengiraan masa gema. Analisis bunyi dalam ruang tertutup. Pantulan bunyi dalam ruang tertutup. Salunan dalam ruang tertutup. Ciri-ciri akustik dalama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.       Kesan bunyi kepada manu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akrif kebisingan. Anatomi telinga manusia. Gangguan ucapan.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san bunyi terhadap kesihatan. Hilang upaya deria pendengaran (pekak) sementara dan kekal. Dos hinga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-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.       Analisis bunyi sekitar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Bunyi dari industri. Bunyi dari kawasan binaan. Bunyi dari kenderaan jalanraya dan keretapi. Analisis bunyi sekitaran. Piawaian bagi paras bunyi yang dibenarkan. Piawaian dan kelengkapan untuk ujian akustik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3-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685800" y="914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ancangan Mengajar                                                                                       Mingg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477120" y="6553080"/>
            <a:ext cx="266688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295280" y="2133720"/>
          <a:ext cx="6782040" cy="3589200"/>
        </p:xfrm>
        <a:graphic>
          <a:graphicData uri="http://schemas.openxmlformats.org/drawingml/2006/table">
            <a:tbl>
              <a:tblPr/>
              <a:tblGrid>
                <a:gridCol w="1036800"/>
                <a:gridCol w="574524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Contoh Tajuk-Tajuk Proj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gukuran dan analisis bunyi dari kenderaan jalanray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ajian penyerapan bunyi menggunakan bahan tempata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ggunaan teknik kawalan aktif bunyi (active noise control, ANC) di industri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mbangunan perisian untuk menganalisa isyarat buny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Rekabentuk sistem penghalang bunyi sekitar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"/>
          <p:cNvSpPr/>
          <p:nvPr/>
        </p:nvSpPr>
        <p:spPr>
          <a:xfrm>
            <a:off x="2743200" y="1294920"/>
            <a:ext cx="3549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roblem Based Learning (PB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600200" y="1523880"/>
            <a:ext cx="5638680" cy="44960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aburan Penilaian Kurs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BL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2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embentangan  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uiz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utor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eperiksa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60</a:t>
            </a:r>
            <a:r>
              <a:rPr b="0" lang="ms-MY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S TO BE CONSIDERED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1447920"/>
            <a:ext cx="8686800" cy="51051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ailani Mohd Nor,  Feb.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895480"/>
            <a:ext cx="3124080" cy="2210040"/>
          </a:xfrm>
          <a:prstGeom prst="rect">
            <a:avLst/>
          </a:prstGeom>
          <a:solidFill>
            <a:srgbClr val="6666ff"/>
          </a:solidFill>
          <a:ln cap="sq"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35268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10280" y="3048120"/>
            <a:ext cx="609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16002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GRAM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81280" y="571500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GRAM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373392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-FIEL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400800" y="3886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4495680" y="525744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4419000" y="2514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Programme Outcom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520" y="762120"/>
            <a:ext cx="8305560" cy="579096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840240"/>
            <a:ext cx="769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1   -    an ability to apply knowledge of mathematics, science, and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2   -   an ability to design and conduct experiments, as well as to analyze and interpre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3   -   an ability to design a system, component, or process to meet desired needs within realistic constraints such as economic, environmental, social, political, ethical, health and safety, manufacturability, and sustain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4   -   an ability to function on multi-disciplinary t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5   -   an ability to identify, formulate, and solve engineering 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6   -   an understanding of professional and ethical respon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7   -   an ability to communicate eff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8   -   broad education necessary to understand the impact of engineering solutions in a global, economic, environmental, and societal 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9   -    a recognition of the need for, and an ability to engage in life-long lea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10   -  knowledge of contemporary iss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11   -  an ability to use the techniques, skills, and modern engineering tools necessary for engineering practice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1143000"/>
            <a:ext cx="7924680" cy="40384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080" y="1371600"/>
            <a:ext cx="74678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elder R. M. and Brent R., 2003, Designing and Teachning Courses to Satisfy the ABET Engineering Criteria,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J. Eng. Educatio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ick Ross,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The outcome-led curriculum</a:t>
            </a:r>
            <a:br>
              <a:rPr sz="1800"/>
            </a:b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Where do we go from here?,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Medical Education Unit, University of Birmingham,  School of Medic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. Felder &amp; R. Brent,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Designing and Redesigning Courses to Address EC2000, NCSU,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Others whom have shared their notes for this worksho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52280" y="1523880"/>
            <a:ext cx="8686800" cy="4876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Developing Intended Course Outco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dentifying academic needs and priorities may precede statement of out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nsider four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haracteristics of students--background, abilities,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sires and needs of society--work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ducational priorities of the institution, school, and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quirements of the field of knowl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eveloping Intended Course Outcomes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 Making Implicit Outcomes Explicit -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focus of learning outcome stat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ed to relate to institutional, college, and departmental 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hould pertain to student academic achievement an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about inputs such as faculty,curriculum, services, or technology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BLOOM’S TAXONOMY OF EDUCATIONAL OBJECTIVES (COGNITIVE DOMAIN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18120" y="2895480"/>
            <a:ext cx="2740680" cy="1064160"/>
            <a:chOff x="6018120" y="2895480"/>
            <a:chExt cx="2740680" cy="1064160"/>
          </a:xfrm>
        </p:grpSpPr>
        <p:sp>
          <p:nvSpPr>
            <p:cNvPr id="554" name=""/>
            <p:cNvSpPr/>
            <p:nvPr/>
          </p:nvSpPr>
          <p:spPr>
            <a:xfrm>
              <a:off x="6213600" y="2973240"/>
              <a:ext cx="204444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8120" y="2895480"/>
              <a:ext cx="2740680" cy="10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5. 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pose, create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vent, design, impr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076400" y="2892600"/>
            <a:ext cx="2014920" cy="1338480"/>
            <a:chOff x="1076400" y="2892600"/>
            <a:chExt cx="2014920" cy="1338480"/>
          </a:xfrm>
        </p:grpSpPr>
        <p:sp>
          <p:nvSpPr>
            <p:cNvPr id="557" name=""/>
            <p:cNvSpPr/>
            <p:nvPr/>
          </p:nvSpPr>
          <p:spPr>
            <a:xfrm>
              <a:off x="1076400" y="2938320"/>
              <a:ext cx="181620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77480" y="2892600"/>
              <a:ext cx="2013840" cy="13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4. Analy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assify, predict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el, de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pr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479760" y="1574640"/>
            <a:ext cx="2197080" cy="1281240"/>
            <a:chOff x="3479760" y="1574640"/>
            <a:chExt cx="2197080" cy="1281240"/>
          </a:xfrm>
        </p:grpSpPr>
        <p:sp>
          <p:nvSpPr>
            <p:cNvPr id="560" name=""/>
            <p:cNvSpPr/>
            <p:nvPr/>
          </p:nvSpPr>
          <p:spPr>
            <a:xfrm>
              <a:off x="3479760" y="1596960"/>
              <a:ext cx="21970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4240" y="1574640"/>
              <a:ext cx="213264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6. Evalu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udge, select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itique, justify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timiz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417840" y="5592600"/>
            <a:ext cx="2197080" cy="789840"/>
            <a:chOff x="3417840" y="5592600"/>
            <a:chExt cx="2197080" cy="789840"/>
          </a:xfrm>
        </p:grpSpPr>
        <p:sp>
          <p:nvSpPr>
            <p:cNvPr id="563" name=""/>
            <p:cNvSpPr/>
            <p:nvPr/>
          </p:nvSpPr>
          <p:spPr>
            <a:xfrm>
              <a:off x="3417840" y="5661000"/>
              <a:ext cx="21970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27560" y="5592600"/>
              <a:ext cx="214956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1. Knowled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st, rec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95360" y="4697280"/>
            <a:ext cx="2905920" cy="732600"/>
            <a:chOff x="495360" y="4697280"/>
            <a:chExt cx="2905920" cy="732600"/>
          </a:xfrm>
        </p:grpSpPr>
        <p:sp>
          <p:nvSpPr>
            <p:cNvPr id="566" name=""/>
            <p:cNvSpPr/>
            <p:nvPr/>
          </p:nvSpPr>
          <p:spPr>
            <a:xfrm>
              <a:off x="495360" y="4738680"/>
              <a:ext cx="28828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360" y="4697280"/>
              <a:ext cx="2842920" cy="7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2. Compreh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plain, paraphr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788800" y="4724280"/>
            <a:ext cx="2199600" cy="1006920"/>
            <a:chOff x="5788800" y="4724280"/>
            <a:chExt cx="2199600" cy="1006920"/>
          </a:xfrm>
        </p:grpSpPr>
        <p:sp>
          <p:nvSpPr>
            <p:cNvPr id="569" name=""/>
            <p:cNvSpPr/>
            <p:nvPr/>
          </p:nvSpPr>
          <p:spPr>
            <a:xfrm>
              <a:off x="5791320" y="4761000"/>
              <a:ext cx="21970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88800" y="4724280"/>
              <a:ext cx="2184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3.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lculate, solve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termine, app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H="1" flipV="1">
            <a:off x="3360240" y="5132160"/>
            <a:ext cx="808200" cy="52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849920" y="5118120"/>
            <a:ext cx="958680" cy="53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889360" y="3257640"/>
            <a:ext cx="1542960" cy="830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4560480" y="2774880"/>
            <a:ext cx="11160" cy="125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879640" y="1967040"/>
            <a:ext cx="631800" cy="1015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5649480" y="1955880"/>
            <a:ext cx="636840" cy="100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68520" y="4938840"/>
            <a:ext cx="2419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351240" y="3333240"/>
            <a:ext cx="2859120" cy="1411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46720" y="4038480"/>
            <a:ext cx="245880" cy="247680"/>
          </a:xfrm>
          <a:prstGeom prst="ellipse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368520" y="4197240"/>
            <a:ext cx="1094040" cy="54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673520" y="4233600"/>
            <a:ext cx="113040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04920" y="1600200"/>
            <a:ext cx="8686800" cy="4876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Classification of Cognitive Domai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loom’s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e handout “Bloom’s Classification of Cognitive Skill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685800" y="306360"/>
          <a:ext cx="807732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6360"/>
                    <a:ext cx="807732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LOOM’S TAXONOMY: VERB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1523880"/>
            <a:ext cx="8686800" cy="4419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Other Classifications of Cognitive Domai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iller et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llu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7:33:45Z</dcterms:created>
  <dc:creator>novig</dc:creator>
  <dc:description/>
  <dc:language>en-US</dc:language>
  <cp:lastModifiedBy>Hassan</cp:lastModifiedBy>
  <cp:lastPrinted>2002-10-10T07:08:46Z</cp:lastPrinted>
  <dcterms:modified xsi:type="dcterms:W3CDTF">2005-06-29T02:33:38Z</dcterms:modified>
  <cp:revision>143</cp:revision>
  <dc:subject/>
  <dc:title>KAEDAH PENYELIDIKAN</dc:title>
</cp:coreProperties>
</file>